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588-6EE3-451A-8042-3A9BB58A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164-C821-45C2-8494-30C08C3D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1F4-F7A3-47C7-9F15-6E7EF94D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A78-CA5E-4E06-80E2-7E98FB74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F30-0243-4DF3-9DFE-9FA92893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233-5783-4283-A07F-2CA7F880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D62-6E27-493A-B032-470219AB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A55-FD14-4D5C-B3CD-EFAD6DCB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EB6-8786-40A7-9C65-2A07BC99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585-4A4A-483C-866C-83AB0F9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AFC-754B-4886-9662-A2514E2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ADE-26E6-4F69-854C-4A46251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8392F1-E3BC-4E4A-BE80-20D592196E5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Davidson_13e_Table 2.1.jpg"/>
          <p:cNvPicPr/>
          <p:nvPr/>
        </p:nvPicPr>
        <p:blipFill>
          <a:blip r:embed="rId1"/>
          <a:stretch/>
        </p:blipFill>
        <p:spPr>
          <a:xfrm>
            <a:off x="1428840" y="0"/>
            <a:ext cx="6286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6:36Z</dcterms:created>
  <dc:creator>Administrator</dc:creator>
  <dc:description/>
  <dc:language>en-US</dc:language>
  <cp:lastModifiedBy>Administrator</cp:lastModifiedBy>
  <dcterms:modified xsi:type="dcterms:W3CDTF">2012-04-04T09:27:2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